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615C-DD02-4D3C-B00E-FADDDFDE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C1E4-DF8B-49C8-A286-73A27F35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8848-47EF-49D3-A5AD-36D9CBFF6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03E4-48E4-4404-99B2-08E77830D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DD54-6D03-4B98-AAED-EB579E7CC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CA15-4B73-4063-96C1-C47793E5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1766-63F6-4140-A608-3546B10F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626C-E637-48DF-9F8A-7DB65E17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5405-F164-4078-AD82-66D77A7F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4A52-A4B7-409E-B3D3-D4FC0A08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098C-8190-45B7-9BE7-31D248F0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F89B-285F-4AF0-B2FE-D96126DF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3C93-653A-4CB7-855A-962AEFB0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1BF1-4F0F-4955-BA1E-DF72542B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9AC5-C55B-4CD1-ACD1-CCC389B8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D14B-AF90-496C-A8BC-B8008588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E92E-61E0-4A32-99FD-45A7840E6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5FCF-8EF4-4664-9572-E1E362AE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BF06-D10A-42DF-AD28-E11E3888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57DD-4C6F-41EB-8BE5-204E108C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A564-5215-41FB-A22B-81E1344F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04FA-FB21-494A-960F-8A6D9136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5962-07A7-4E5B-8BDA-B5DFE351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029A-3D7C-40D2-88F6-E42634C2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3F9F-00EB-4F9E-B0EB-5E96DA46C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0B3F-F4EE-4A67-BB21-565A14AD7D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685800" y="1523880"/>
          <a:ext cx="7775640" cy="463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775640" cy="46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903960" y="17524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65-6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0-7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887640" y="17524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-7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395680" y="17524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-8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843600" y="17524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-8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918440" y="3168720"/>
            <a:ext cx="566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r with this and Or with th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1909440" y="3168720"/>
            <a:ext cx="35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ither and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1900440" y="3168720"/>
            <a:ext cx="205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e?, Pro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1906560" y="3168720"/>
            <a:ext cx="315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befo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forwar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1906920" y="3168720"/>
            <a:ext cx="58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ity of Chief in importance, The buil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1901880" y="3168720"/>
            <a:ext cx="36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Capital and Capito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1914120" y="3168720"/>
            <a:ext cx="66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od is a(n) blank while well is generally a(n) bl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1905480" y="3168720"/>
            <a:ext cx="46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an adjective and an adver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1890000" y="3168720"/>
            <a:ext cx="676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be happy? To be in good health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1909440" y="3168720"/>
            <a:ext cx="361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feel goo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feel wel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1900440" y="316872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Forms of occ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1904400" y="3168720"/>
            <a:ext cx="71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al right or privilege because of age, rank, 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1898640" y="316872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Preroga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TextBox 6"/>
          <p:cNvSpPr/>
          <p:nvPr/>
        </p:nvSpPr>
        <p:spPr>
          <a:xfrm>
            <a:off x="931320" y="2895480"/>
            <a:ext cx="68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name of the clinic in Rochester, Minneso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1900800" y="316872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Mayo Clin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1919880" y="3168720"/>
            <a:ext cx="561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self, thierself, theirselves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ourselv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1915560" y="3168720"/>
            <a:ext cx="487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words to avoi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1890000" y="316872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art, Al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898280" y="3168720"/>
            <a:ext cx="27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leave and l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460800" y="2286000"/>
            <a:ext cx="86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y way to distinguish between already and all ready is to substit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1896840" y="316872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rea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6"/>
          <p:cNvSpPr/>
          <p:nvPr/>
        </p:nvSpPr>
        <p:spPr>
          <a:xfrm>
            <a:off x="785880" y="2438280"/>
            <a:ext cx="65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occurred, occurring, occurrences, occur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1896840" y="3168720"/>
            <a:ext cx="408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receive willingl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exclude or bu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1894320" y="3168720"/>
            <a:ext cx="300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ccep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excep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1905840" y="316872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ck slice of beef, Social Blunder, unpleasantly famili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2006640" y="3168720"/>
            <a:ext cx="61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let mignon, Faux pas, Déjà V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0" y="22860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ivate conversation, sudden decisive exercise of authority in politics, all tog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1924920" y="3168720"/>
            <a:ext cx="62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ête-à-tête, coup d etat, en mas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1900440" y="3168720"/>
            <a:ext cx="25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an? The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6"/>
          <p:cNvSpPr/>
          <p:nvPr/>
        </p:nvSpPr>
        <p:spPr>
          <a:xfrm>
            <a:off x="1295280" y="228600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compare 2 or more thing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tells wh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1910880" y="3168720"/>
            <a:ext cx="70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nail Prepared for food, coffee and milk, flaming liqu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1094760" y="3429000"/>
            <a:ext cx="57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scargot, Café au lait, Flamb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1105920" y="2895480"/>
            <a:ext cx="70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mething that completes, and Prai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457200" y="23623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rved in the juice obtained from roasting; fashionable, stylish, topped with ice cream; according to a menu that prices each item separate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1870920" y="3168720"/>
            <a:ext cx="37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 jus, A la mode, A la ca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1929240" y="3168720"/>
            <a:ext cx="518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word, number, verse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 sentence that reads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me forward or backwar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1912680" y="3168720"/>
            <a:ext cx="412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Palindr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890360" y="316872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1888200" y="316872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t tense of L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1890720" y="31687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1888920" y="3168720"/>
            <a:ext cx="23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t tense of p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1882440" y="316872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ress wishes and signal hypothetical situa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1888560" y="316872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juncti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956160" y="3048120"/>
            <a:ext cx="748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Complement and Compli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1880640" y="3168720"/>
            <a:ext cx="69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oad references used carelessly make writing unclea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1886040" y="3168720"/>
            <a:ext cx="401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oid use i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th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lon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923120" y="3168720"/>
            <a:ext cx="6272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ublic burial place fore unknow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ople and for paup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1909800" y="3168720"/>
            <a:ext cx="43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potter’s fiel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1861920" y="316872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, Too,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1918800" y="3168720"/>
            <a:ext cx="59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the different spelling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to (two,too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213048</cp:lastModifiedBy>
  <dcterms:modified xsi:type="dcterms:W3CDTF">2010-05-19T20:14:49Z</dcterms:modified>
  <cp:revision>22</cp:revision>
  <dc:subject/>
  <dc:title>Jeopardy</dc:title>
</cp:coreProperties>
</file>